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EFA-65C4-4088-9DA2-54264391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4D4-D849-47E3-94C1-AD2EC573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22D-7559-446F-B3C6-CB82B8EF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008-6A26-41CA-9644-8D9A8533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B85-8631-4D3D-84F9-67BB70C4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6AF-7DD0-46C6-BD9E-E1055691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B2A-9530-4C3C-8325-2F83F613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89E-ACDF-421A-BA77-051EB3ED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A5F-4671-4E90-8C60-96CE477E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C16-E348-4DA2-84CB-B74CF189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207-4892-4419-8214-E2C158BD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55B-6EF7-4453-AFE2-59F3ACA2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B4B9-132B-4A58-B54D-87533C97EC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69228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十章  机关事业单位工勤人员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礼仪文明素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492280"/>
            <a:ext cx="9144000" cy="2665440"/>
          </a:xfrm>
          <a:prstGeom prst="rect">
            <a:avLst/>
          </a:prstGeom>
          <a:solidFill>
            <a:srgbClr val="cc3300">
              <a:alpha val="6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提示：礼仪是人类文明的表现，也是人类文明的成果。个人的职业形象代表着单位的形象，直接影响单位的产品、服务和效益。在工作中要注意塑造自己的职业形象，从而塑造良好的单位形象。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403280" y="2565000"/>
            <a:ext cx="51134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一节  礼仪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二节  个人形象礼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三节  基本职业礼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477880" cy="29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90792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十章  机关事业单位工勤人员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礼仪文明素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5112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一节  礼仪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一、礼仪概念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一）礼仪的概念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</a:t>
            </a: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人们在交往中，为表达相互尊重，约定俗成、共同认可的规范和程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500280"/>
            <a:ext cx="7777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二）工勤人员礼仪内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  </a:t>
            </a: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工勤人员礼仪是工勤人员必备的基本条件，是工勤人员在服务过程中仪表、仪态、仪容、语言、操作规范的要求，体现工勤人员的精神面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3672000" cy="792000"/>
          </a:xfrm>
          <a:prstGeom prst="rect">
            <a:avLst/>
          </a:prstGeom>
          <a:solidFill>
            <a:srgbClr val="ccccff">
              <a:alpha val="49000"/>
            </a:srgbClr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一节  礼仪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345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二、礼仪的内容和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一）礼仪的</a:t>
            </a: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  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礼貌   礼节   仪式   礼俗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645000"/>
            <a:ext cx="7561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二）礼仪的</a:t>
            </a: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特点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  </a:t>
            </a:r>
            <a:r>
              <a:rPr b="0" lang="zh-CN" sz="3200" spc="-1" strike="noStrike">
                <a:solidFill>
                  <a:srgbClr val="000099"/>
                </a:solidFill>
                <a:latin typeface="微软雅黑"/>
                <a:ea typeface="微软雅黑"/>
              </a:rPr>
              <a:t>规范性    民族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微软雅黑"/>
                <a:ea typeface="微软雅黑"/>
              </a:rPr>
              <a:t>          </a:t>
            </a:r>
            <a:r>
              <a:rPr b="0" lang="zh-CN" sz="3200" spc="-1" strike="noStrike">
                <a:solidFill>
                  <a:srgbClr val="000099"/>
                </a:solidFill>
                <a:latin typeface="微软雅黑"/>
                <a:ea typeface="微软雅黑"/>
              </a:rPr>
              <a:t>国际性    时代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1645" t="0" r="14599" b="-10385"/>
          <a:stretch/>
        </p:blipFill>
        <p:spPr>
          <a:xfrm>
            <a:off x="4643280" y="5589720"/>
            <a:ext cx="3525840" cy="68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56360" y="5380200"/>
            <a:ext cx="1727280" cy="1477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4248000" cy="792000"/>
          </a:xfrm>
          <a:prstGeom prst="rect">
            <a:avLst/>
          </a:prstGeom>
          <a:solidFill>
            <a:srgbClr val="ccccff">
              <a:alpha val="49000"/>
            </a:srgbClr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一节  礼仪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07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三、礼仪修养与职业形象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礼仪修养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是职业形象的内在因素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职业形象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是礼仪修养的外在表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互为表里相得益彰，统一于职业活动之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005360"/>
            <a:ext cx="820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微软雅黑"/>
                <a:ea typeface="微软雅黑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礼仪修养反映一个人的思想道德、文化修养、交际能力；在职业活动中，个人的职业形象代表着单位的形象，将直接影响单位的产品、服务和效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609300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66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800000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197000"/>
            <a:ext cx="712800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1197000"/>
            <a:ext cx="691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1197000"/>
            <a:ext cx="36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4535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二节  个人形象礼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993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一、给人良好的第一印象 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先入为主 “首因效应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二、仪容礼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保持自然美  适当修饰美  丰富内在美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716280"/>
            <a:ext cx="755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三、仪表礼仪：</a:t>
            </a:r>
            <a:r>
              <a:rPr b="0" lang="zh-CN" sz="2400" spc="-1" strike="noStrike">
                <a:solidFill>
                  <a:srgbClr val="800000"/>
                </a:solidFill>
                <a:latin typeface="微软雅黑"/>
                <a:ea typeface="微软雅黑"/>
              </a:rPr>
              <a:t>体现人的文化修养和审美情趣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四、仪态礼仪：</a:t>
            </a:r>
            <a:r>
              <a:rPr b="0" lang="zh-CN" sz="2400" spc="-1" strike="noStrike">
                <a:solidFill>
                  <a:srgbClr val="800000"/>
                </a:solidFill>
                <a:latin typeface="微软雅黑"/>
                <a:ea typeface="微软雅黑"/>
              </a:rPr>
              <a:t>眼神、微笑、站坐行姿、手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32720" y="5805360"/>
            <a:ext cx="1008000" cy="289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66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800000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1645" t="0" r="14599" b="-10385"/>
          <a:stretch/>
        </p:blipFill>
        <p:spPr>
          <a:xfrm>
            <a:off x="2627280" y="5516640"/>
            <a:ext cx="3022560" cy="68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79640" y="765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三节  基本职业礼仪</a:t>
            </a:r>
            <a:r>
              <a:rPr b="0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1628640"/>
            <a:ext cx="7201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一、见面礼仪：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致意、握手、鞠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二、称呼礼仪：</a:t>
            </a: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使用尊称、记住对方的名字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三、交谈礼仪：</a:t>
            </a:r>
            <a:r>
              <a:rPr b="0" lang="zh-CN" sz="2500" spc="-1" strike="noStrike">
                <a:solidFill>
                  <a:srgbClr val="660066"/>
                </a:solidFill>
                <a:latin typeface="微软雅黑"/>
                <a:ea typeface="微软雅黑"/>
              </a:rPr>
              <a:t>礼貌用语、回避禁忌、善于倾听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四、电话礼仪：</a:t>
            </a: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礼貌、友善、简洁、语速适当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五、出入办公室礼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     </a:t>
            </a:r>
            <a:r>
              <a:rPr b="1" lang="zh-CN" sz="2600" spc="-1" strike="noStrike">
                <a:solidFill>
                  <a:srgbClr val="ffff66"/>
                </a:solidFill>
                <a:latin typeface="微软雅黑"/>
                <a:ea typeface="微软雅黑"/>
              </a:rPr>
              <a:t>先敲门、后进入，</a:t>
            </a: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                 </a:t>
            </a:r>
            <a:r>
              <a:rPr b="1" lang="zh-CN" sz="2600" spc="-1" strike="noStrike">
                <a:solidFill>
                  <a:srgbClr val="ffff66"/>
                </a:solidFill>
                <a:latin typeface="微软雅黑"/>
                <a:ea typeface="微软雅黑"/>
              </a:rPr>
              <a:t>离开道别轻关门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84720" y="4221000"/>
            <a:ext cx="1955880" cy="216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40360" y="5805360"/>
            <a:ext cx="936360" cy="289080"/>
          </a:xfrm>
          <a:custGeom>
            <a:avLst/>
            <a:gdLst>
              <a:gd name="textAreaLeft" fmla="*/ 0 w 936360"/>
              <a:gd name="textAreaRight" fmla="*/ 936720 w 936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66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800000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01080" y="2349360"/>
            <a:ext cx="574560" cy="35892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439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微软雅黑"/>
                <a:ea typeface="微软雅黑"/>
              </a:rPr>
              <a:t>思考题</a:t>
            </a:r>
            <a:r>
              <a:rPr b="0" lang="zh-CN" sz="54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（部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773360"/>
            <a:ext cx="8424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机关事业单位工勤人员掌握礼仪、礼节的意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机关事业单位工勤人员应从哪些方面训练自己的仪态，使自己符合礼仪规范的要求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机关事业单位工勤人员出入办公室需要注意哪些礼仪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6804000" y="314172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66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  </a:t>
            </a:r>
            <a:r>
              <a:rPr b="0" lang="zh-CN" sz="1200" spc="-1" strike="noStrike">
                <a:solidFill>
                  <a:srgbClr val="800000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35280" y="450864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33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28000" y="206064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66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800000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nt"/>
          <p:cNvSpPr/>
          <p:nvPr/>
        </p:nvSpPr>
        <p:spPr>
          <a:xfrm>
            <a:off x="6588000" y="4797360"/>
            <a:ext cx="1297080" cy="10065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nt"/>
          <p:cNvSpPr/>
          <p:nvPr/>
        </p:nvSpPr>
        <p:spPr>
          <a:xfrm>
            <a:off x="5867280" y="5084640"/>
            <a:ext cx="1225800" cy="100836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76520" y="228600"/>
            <a:ext cx="60195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0" spc="-1" strike="noStrike">
                <a:solidFill>
                  <a:srgbClr val="ffcc66"/>
                </a:solidFill>
                <a:latin typeface="Times New Roman"/>
              </a:rPr>
              <a:t>人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83664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生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01336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心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4648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体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057400" y="3715920"/>
            <a:ext cx="1722600" cy="1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3526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体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25909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2205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体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4191120"/>
            <a:ext cx="2063880" cy="2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3860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兴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3200400"/>
            <a:ext cx="186840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2852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495680" y="2204640"/>
            <a:ext cx="151632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1844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智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3:47:36Z</dcterms:created>
  <dc:creator>llm</dc:creator>
  <dc:description/>
  <dc:language>en-US</dc:language>
  <cp:lastModifiedBy>User</cp:lastModifiedBy>
  <dcterms:modified xsi:type="dcterms:W3CDTF">2013-06-04T15:32:42Z</dcterms:modified>
  <cp:revision>85</cp:revision>
  <dc:subject/>
  <dc:title>PowerPoint 演示文稿</dc:title>
</cp:coreProperties>
</file>